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58.jpeg" ContentType="image/jpeg"/>
  <Override PartName="/ppt/media/image57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1.png" ContentType="image/png"/>
  <Override PartName="/ppt/media/image48.png" ContentType="image/png"/>
  <Override PartName="/ppt/media/image45.jpeg" ContentType="image/jpeg"/>
  <Override PartName="/ppt/media/image47.jpeg" ContentType="image/jpeg"/>
  <Override PartName="/ppt/media/image68.png" ContentType="image/png"/>
  <Override PartName="/ppt/media/image46.jpeg" ContentType="image/jpeg"/>
  <Override PartName="/ppt/media/image2.jpeg" ContentType="image/jpeg"/>
  <Override PartName="/ppt/media/image12.jpeg" ContentType="image/jpeg"/>
  <Override PartName="/ppt/media/image34.png" ContentType="image/png"/>
  <Override PartName="/ppt/media/image20.png" ContentType="image/png"/>
  <Override PartName="/ppt/media/image37.jpeg" ContentType="image/jpeg"/>
  <Override PartName="/ppt/media/image3.jpeg" ContentType="image/jpeg"/>
  <Override PartName="/ppt/media/image30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1.png" ContentType="image/png"/>
  <Override PartName="/ppt/media/image71.jpeg" ContentType="image/jpeg"/>
  <Override PartName="/ppt/media/image44.jpeg" ContentType="image/jpeg"/>
  <Override PartName="/ppt/media/image17.jpeg" ContentType="image/jpeg"/>
  <Override PartName="/ppt/media/image55.jpeg" ContentType="image/jpeg"/>
  <Override PartName="/ppt/media/image22.jpeg" ContentType="image/jpeg"/>
  <Override PartName="/ppt/media/image9.png" ContentType="image/png"/>
  <Override PartName="/ppt/media/image70.jpeg" ContentType="image/jpeg"/>
  <Override PartName="/ppt/media/image43.jpeg" ContentType="image/jpeg"/>
  <Override PartName="/ppt/media/image67.jpeg" ContentType="image/jpeg"/>
  <Override PartName="/ppt/media/image69.png" ContentType="image/png"/>
  <Override PartName="/ppt/media/image25.jpeg" ContentType="image/jpeg"/>
  <Override PartName="/ppt/media/image62.jpeg" ContentType="image/jpeg"/>
  <Override PartName="/ppt/media/image50.png" ContentType="image/png"/>
  <Override PartName="/ppt/media/image14.png" ContentType="image/png"/>
  <Override PartName="/ppt/media/image27.jpeg" ContentType="image/jpeg"/>
  <Override PartName="/ppt/media/image10.jpeg" ContentType="image/jpeg"/>
  <Override PartName="/ppt/media/image73.jpeg" ContentType="image/jpeg"/>
  <Override PartName="/ppt/media/image65.png" ContentType="image/png"/>
  <Override PartName="/ppt/media/image60.jpeg" ContentType="image/jpeg"/>
  <Override PartName="/ppt/media/image64.png" ContentType="image/png"/>
  <Override PartName="/ppt/media/image26.jpeg" ContentType="image/jpeg"/>
  <Override PartName="/ppt/media/image42.png" ContentType="image/png"/>
  <Override PartName="/ppt/media/image5.jpeg" ContentType="image/jpeg"/>
  <Override PartName="/ppt/media/image61.png" ContentType="image/png"/>
  <Override PartName="/ppt/media/image63.jpeg" ContentType="image/jpeg"/>
  <Override PartName="/ppt/media/image29.png" ContentType="image/png"/>
  <Override PartName="/ppt/media/image36.png" ContentType="image/png"/>
  <Override PartName="/ppt/media/image51.jpeg" ContentType="image/jpeg"/>
  <Override PartName="/ppt/media/image4.png" ContentType="image/png"/>
  <Override PartName="/ppt/media/image16.png" ContentType="image/png"/>
  <Override PartName="/ppt/media/image7.jpeg" ContentType="image/jpeg"/>
  <Override PartName="/ppt/media/image38.jpeg" ContentType="image/jpeg"/>
  <Override PartName="/ppt/media/image72.png" ContentType="image/png"/>
  <Override PartName="/ppt/media/image8.png" ContentType="image/png"/>
  <Override PartName="/ppt/media/image39.jpeg" ContentType="image/jpeg"/>
  <Override PartName="/ppt/media/image28.jpeg" ContentType="image/jpeg"/>
  <Override PartName="/ppt/media/image11.jpeg" ContentType="image/jpeg"/>
  <Override PartName="/ppt/media/image31.jpeg" ContentType="image/jpeg"/>
  <Override PartName="/ppt/media/image32.jpeg" ContentType="image/jpeg"/>
  <Override PartName="/ppt/media/image54.jpeg" ContentType="image/jpeg"/>
  <Override PartName="/ppt/media/image33.png" ContentType="image/png"/>
  <Override PartName="/ppt/media/image56.jpeg" ContentType="image/jpeg"/>
  <Override PartName="/ppt/media/image35.jpeg" ContentType="image/jpeg"/>
  <Override PartName="/ppt/media/image40.jpeg" ContentType="image/jpeg"/>
  <Override PartName="/ppt/media/image66.png" ContentType="image/png"/>
  <Override PartName="/ppt/media/image4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1A0B-194C-4D26-A48A-8157E0900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5966-077D-411D-8E3B-88890F2E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0BC0-3440-44C9-A267-07BDA80DA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BA5F-A9C3-4E00-AAF0-A0E040FE8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11C9-14BD-45DE-9F8B-6C89E10E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AE7A-1A61-4D62-AF71-22F2467F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CEE0-7F63-4A76-A3F4-F1F40B77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F22D-C0F3-4820-B813-F28A849A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17CF-AE7C-4EC1-9D00-B9A4B140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52DF-2782-4B10-8060-6AE59A94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F4FD-A4CC-4966-8BF5-E6318703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881C-70C9-47D0-91EA-35279974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78753-004-905E0AF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ranti Solid LE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1331-97D4-447D-9BA3-A3749E8D3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jpe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png"/><Relationship Id="rId8" Type="http://schemas.openxmlformats.org/officeDocument/2006/relationships/image" Target="../media/image36.png"/><Relationship Id="rId9" Type="http://schemas.openxmlformats.org/officeDocument/2006/relationships/image" Target="../media/image43.jpeg"/><Relationship Id="rId10" Type="http://schemas.openxmlformats.org/officeDocument/2006/relationships/image" Target="../media/image44.jpeg"/><Relationship Id="rId11" Type="http://schemas.openxmlformats.org/officeDocument/2006/relationships/image" Target="../media/image45.jpeg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pn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0.pn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image" Target="../media/image56.jpeg"/><Relationship Id="rId9" Type="http://schemas.openxmlformats.org/officeDocument/2006/relationships/image" Target="../media/image57.jpe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png"/><Relationship Id="rId6" Type="http://schemas.openxmlformats.org/officeDocument/2006/relationships/image" Target="../media/image62.jpeg"/><Relationship Id="rId7" Type="http://schemas.openxmlformats.org/officeDocument/2006/relationships/image" Target="../media/image55.jpeg"/><Relationship Id="rId8" Type="http://schemas.openxmlformats.org/officeDocument/2006/relationships/image" Target="../media/image63.jpe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5.jpeg"/><Relationship Id="rId3" Type="http://schemas.openxmlformats.org/officeDocument/2006/relationships/image" Target="../media/image64.png"/><Relationship Id="rId4" Type="http://schemas.openxmlformats.org/officeDocument/2006/relationships/image" Target="../media/image61.png"/><Relationship Id="rId5" Type="http://schemas.openxmlformats.org/officeDocument/2006/relationships/image" Target="../media/image65.png"/><Relationship Id="rId6" Type="http://schemas.openxmlformats.org/officeDocument/2006/relationships/image" Target="../media/image57.jpeg"/><Relationship Id="rId7" Type="http://schemas.openxmlformats.org/officeDocument/2006/relationships/image" Target="../media/image66.png"/><Relationship Id="rId8" Type="http://schemas.openxmlformats.org/officeDocument/2006/relationships/image" Target="../media/image67.jpe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hyperlink" Target="http://bp3.blogger.com/_3Y4S8i83naI/RzBqj8OSbcI/AAAAAAAAAlI/kjnvZvma3Io/s1600-h/flaxdone.jpg" TargetMode="External"/><Relationship Id="rId5" Type="http://schemas.openxmlformats.org/officeDocument/2006/relationships/image" Target="../media/image70.jpeg"/><Relationship Id="rId6" Type="http://schemas.openxmlformats.org/officeDocument/2006/relationships/image" Target="../media/image71.jpeg"/><Relationship Id="rId7" Type="http://schemas.openxmlformats.org/officeDocument/2006/relationships/image" Target="../media/image72.png"/><Relationship Id="rId8" Type="http://schemas.openxmlformats.org/officeDocument/2006/relationships/image" Target="../media/image73.jpe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hyperlink" Target="http://en.wikipedia.org/wiki/File:Russian_Federation_(orthographic_projection).svg" TargetMode="External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ranti Solid LET"/>
              </a:rPr>
              <a:t>Stalin and Russia</a:t>
            </a:r>
            <a:endParaRPr b="0" lang="en-US" sz="106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lin’s rise to pow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lin’s Economic Poli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stockphoto_4608079_russian_roubles_backgroun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ranti Solid LET"/>
              </a:rPr>
              <a:t>What measures were taken to enforce the 5 year plans?</a:t>
            </a: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bitious targets were set. Fines for not comply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le cities built where there were rich natural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ms built so hydropower could be used in indus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lways and canal built to improve transportation (e.g. Moscow undergrou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beria's rich mineral explo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e money ploughed into agri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SPLAN drew up 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our C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ag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85800" y="1219320"/>
            <a:ext cx="7772400" cy="5638680"/>
            <a:chOff x="685800" y="1219320"/>
            <a:chExt cx="7772400" cy="5638680"/>
          </a:xfrm>
        </p:grpSpPr>
        <p:pic>
          <p:nvPicPr>
            <p:cNvPr id="99" name="target_frame" descr=""/>
            <p:cNvPicPr/>
            <p:nvPr/>
          </p:nvPicPr>
          <p:blipFill>
            <a:blip r:embed="rId2"/>
            <a:srcRect l="24826" t="10506" r="23293" b="19321"/>
            <a:stretch/>
          </p:blipFill>
          <p:spPr>
            <a:xfrm>
              <a:off x="762120" y="1219320"/>
              <a:ext cx="1447560" cy="14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city_cartoon_-_sunrise" descr=""/>
            <p:cNvPicPr/>
            <p:nvPr/>
          </p:nvPicPr>
          <p:blipFill>
            <a:blip r:embed="rId3"/>
            <a:stretch/>
          </p:blipFill>
          <p:spPr>
            <a:xfrm>
              <a:off x="5105520" y="5043600"/>
              <a:ext cx="3352680" cy="18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warning-electricity-2" descr=""/>
            <p:cNvPicPr/>
            <p:nvPr/>
          </p:nvPicPr>
          <p:blipFill>
            <a:blip r:embed="rId4"/>
            <a:stretch/>
          </p:blipFill>
          <p:spPr>
            <a:xfrm>
              <a:off x="990720" y="5732640"/>
              <a:ext cx="125712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rail-cartoon" descr=""/>
            <p:cNvPicPr/>
            <p:nvPr/>
          </p:nvPicPr>
          <p:blipFill>
            <a:blip r:embed="rId5"/>
            <a:stretch/>
          </p:blipFill>
          <p:spPr>
            <a:xfrm>
              <a:off x="2743200" y="5464080"/>
              <a:ext cx="2209680" cy="139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0013729e4ad9090230fc10" descr=""/>
            <p:cNvPicPr/>
            <p:nvPr/>
          </p:nvPicPr>
          <p:blipFill>
            <a:blip r:embed="rId6"/>
            <a:srcRect l="10000" t="26298" r="19525" b="2595"/>
            <a:stretch/>
          </p:blipFill>
          <p:spPr>
            <a:xfrm>
              <a:off x="685800" y="2895480"/>
              <a:ext cx="17622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treemoney" descr=""/>
            <p:cNvPicPr/>
            <p:nvPr/>
          </p:nvPicPr>
          <p:blipFill>
            <a:blip r:embed="rId7"/>
            <a:stretch/>
          </p:blipFill>
          <p:spPr>
            <a:xfrm>
              <a:off x="5486400" y="2590920"/>
              <a:ext cx="2141640" cy="23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encil" descr=""/>
            <p:cNvPicPr/>
            <p:nvPr/>
          </p:nvPicPr>
          <p:blipFill>
            <a:blip r:embed="rId8"/>
            <a:stretch/>
          </p:blipFill>
          <p:spPr>
            <a:xfrm>
              <a:off x="2895480" y="3657600"/>
              <a:ext cx="1619280" cy="14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ARJ_340" descr=""/>
            <p:cNvPicPr/>
            <p:nvPr/>
          </p:nvPicPr>
          <p:blipFill>
            <a:blip r:embed="rId9"/>
            <a:srcRect l="0" t="26478" r="0" b="0"/>
            <a:stretch/>
          </p:blipFill>
          <p:spPr>
            <a:xfrm>
              <a:off x="6324480" y="1219320"/>
              <a:ext cx="1600200" cy="11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newspaper_3" descr=""/>
            <p:cNvPicPr/>
            <p:nvPr/>
          </p:nvPicPr>
          <p:blipFill>
            <a:blip r:embed="rId10"/>
            <a:stretch/>
          </p:blipFill>
          <p:spPr>
            <a:xfrm>
              <a:off x="2743200" y="1447920"/>
              <a:ext cx="2266920" cy="185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stockphoto_4608079_russian_roubles_backgroun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ranti Solid LET"/>
              </a:rPr>
              <a:t>What were the successes of the 5 year plans?</a:t>
            </a: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duction incre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un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men started to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re doctors/ head than Britai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ic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aved Russia from WWII def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ood for propaganda (promote communi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vertaking Britain and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viet workers had slightly better living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exei Stakhanov – a hero sto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33520" y="914400"/>
            <a:ext cx="8114760" cy="5791320"/>
            <a:chOff x="533520" y="914400"/>
            <a:chExt cx="8114760" cy="5791320"/>
          </a:xfrm>
        </p:grpSpPr>
        <p:pic>
          <p:nvPicPr>
            <p:cNvPr id="112" name="MI1280" descr=""/>
            <p:cNvPicPr/>
            <p:nvPr/>
          </p:nvPicPr>
          <p:blipFill>
            <a:blip r:embed="rId2"/>
            <a:stretch/>
          </p:blipFill>
          <p:spPr>
            <a:xfrm>
              <a:off x="5638680" y="3353040"/>
              <a:ext cx="7711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ist22911544receptionist-main_Full" descr=""/>
            <p:cNvPicPr/>
            <p:nvPr/>
          </p:nvPicPr>
          <p:blipFill>
            <a:blip r:embed="rId3"/>
            <a:stretch/>
          </p:blipFill>
          <p:spPr>
            <a:xfrm>
              <a:off x="6629040" y="2362320"/>
              <a:ext cx="2019240" cy="20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400651WdFC_w" descr=""/>
            <p:cNvPicPr/>
            <p:nvPr/>
          </p:nvPicPr>
          <p:blipFill>
            <a:blip r:embed="rId4"/>
            <a:stretch/>
          </p:blipFill>
          <p:spPr>
            <a:xfrm>
              <a:off x="5562360" y="4543560"/>
              <a:ext cx="2742840" cy="21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Dr-Who_Final" descr=""/>
            <p:cNvPicPr/>
            <p:nvPr/>
          </p:nvPicPr>
          <p:blipFill>
            <a:blip r:embed="rId5"/>
            <a:stretch/>
          </p:blipFill>
          <p:spPr>
            <a:xfrm>
              <a:off x="3047760" y="3276720"/>
              <a:ext cx="22302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Classroom" descr=""/>
            <p:cNvPicPr/>
            <p:nvPr/>
          </p:nvPicPr>
          <p:blipFill>
            <a:blip r:embed="rId6"/>
            <a:stretch/>
          </p:blipFill>
          <p:spPr>
            <a:xfrm>
              <a:off x="4190760" y="914400"/>
              <a:ext cx="2157120" cy="22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cartoon%20trophy%20g" descr=""/>
            <p:cNvPicPr/>
            <p:nvPr/>
          </p:nvPicPr>
          <p:blipFill>
            <a:blip r:embed="rId7"/>
            <a:stretch/>
          </p:blipFill>
          <p:spPr>
            <a:xfrm>
              <a:off x="2514240" y="990720"/>
              <a:ext cx="1361880" cy="19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newspaper_3" descr=""/>
            <p:cNvPicPr/>
            <p:nvPr/>
          </p:nvPicPr>
          <p:blipFill>
            <a:blip r:embed="rId8"/>
            <a:stretch/>
          </p:blipFill>
          <p:spPr>
            <a:xfrm>
              <a:off x="685440" y="5224680"/>
              <a:ext cx="1809360" cy="14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s_monopoly-house" descr=""/>
            <p:cNvPicPr/>
            <p:nvPr/>
          </p:nvPicPr>
          <p:blipFill>
            <a:blip r:embed="rId9"/>
            <a:srcRect l="30002" t="29985" r="28672" b="27988"/>
            <a:stretch/>
          </p:blipFill>
          <p:spPr>
            <a:xfrm>
              <a:off x="6781680" y="1067040"/>
              <a:ext cx="1447200" cy="9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20481384" descr="The Cartoon Gambler"/>
            <p:cNvPicPr/>
            <p:nvPr/>
          </p:nvPicPr>
          <p:blipFill>
            <a:blip r:embed="rId10"/>
            <a:srcRect l="10731" t="6855" r="11457" b="17775"/>
            <a:stretch/>
          </p:blipFill>
          <p:spPr>
            <a:xfrm>
              <a:off x="533520" y="3429000"/>
              <a:ext cx="220932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news-kosovo-kid-justice" descr=""/>
            <p:cNvPicPr/>
            <p:nvPr/>
          </p:nvPicPr>
          <p:blipFill>
            <a:blip r:embed="rId11"/>
            <a:stretch/>
          </p:blipFill>
          <p:spPr>
            <a:xfrm>
              <a:off x="685440" y="914400"/>
              <a:ext cx="1566720" cy="2100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istockphoto_4608079_russian_roubles_backgroun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ranti Solid LET"/>
              </a:rPr>
              <a:t>What were the failures of the 5 year plans?</a:t>
            </a: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uman cost (100 000 died on Belmor ca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vercrow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ac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many consumer goods for normal peop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143000" y="1603440"/>
            <a:ext cx="6591240" cy="4952880"/>
            <a:chOff x="1143000" y="1603440"/>
            <a:chExt cx="6591240" cy="4952880"/>
          </a:xfrm>
        </p:grpSpPr>
        <p:pic>
          <p:nvPicPr>
            <p:cNvPr id="126" name="Image_Selects_Target" descr=""/>
            <p:cNvPicPr/>
            <p:nvPr/>
          </p:nvPicPr>
          <p:blipFill>
            <a:blip r:embed="rId2"/>
            <a:stretch/>
          </p:blipFill>
          <p:spPr>
            <a:xfrm>
              <a:off x="1295280" y="1755720"/>
              <a:ext cx="2057400" cy="15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mban621l" descr=""/>
            <p:cNvPicPr/>
            <p:nvPr/>
          </p:nvPicPr>
          <p:blipFill>
            <a:blip r:embed="rId3"/>
            <a:srcRect l="0" t="13345" r="0" b="8326"/>
            <a:stretch/>
          </p:blipFill>
          <p:spPr>
            <a:xfrm>
              <a:off x="1143000" y="3505320"/>
              <a:ext cx="3429000" cy="30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1111699916gravestone" descr=""/>
            <p:cNvPicPr/>
            <p:nvPr/>
          </p:nvPicPr>
          <p:blipFill>
            <a:blip r:embed="rId4"/>
            <a:stretch/>
          </p:blipFill>
          <p:spPr>
            <a:xfrm>
              <a:off x="4724280" y="4575240"/>
              <a:ext cx="2743200" cy="170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Racism" descr=""/>
            <p:cNvPicPr/>
            <p:nvPr/>
          </p:nvPicPr>
          <p:blipFill>
            <a:blip r:embed="rId5"/>
            <a:stretch/>
          </p:blipFill>
          <p:spPr>
            <a:xfrm>
              <a:off x="3581280" y="1603440"/>
              <a:ext cx="4152960" cy="277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istockphoto_4608079_russian_roubles_backgroun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ranti Solid LET"/>
              </a:rPr>
              <a:t>What were the aims of collectivisation?</a:t>
            </a: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peasants to use machin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odernise fa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ly materials for 5 year p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 the 5 year p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over a large amount of the 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e Kula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ed growing 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e communist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80880" y="1371600"/>
            <a:ext cx="7848720" cy="5486400"/>
            <a:chOff x="380880" y="1371600"/>
            <a:chExt cx="7848720" cy="5486400"/>
          </a:xfrm>
        </p:grpSpPr>
        <p:pic>
          <p:nvPicPr>
            <p:cNvPr id="134" name="tractor" descr=""/>
            <p:cNvPicPr/>
            <p:nvPr/>
          </p:nvPicPr>
          <p:blipFill>
            <a:blip r:embed="rId2"/>
            <a:stretch/>
          </p:blipFill>
          <p:spPr>
            <a:xfrm>
              <a:off x="6553080" y="5310360"/>
              <a:ext cx="1471680" cy="15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2241Spaceship" descr=""/>
            <p:cNvPicPr/>
            <p:nvPr/>
          </p:nvPicPr>
          <p:blipFill>
            <a:blip r:embed="rId3"/>
            <a:srcRect l="0" t="19921" r="0" b="26864"/>
            <a:stretch/>
          </p:blipFill>
          <p:spPr>
            <a:xfrm>
              <a:off x="380880" y="5029200"/>
              <a:ext cx="2895840" cy="154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FeedMe" descr=""/>
            <p:cNvPicPr/>
            <p:nvPr/>
          </p:nvPicPr>
          <p:blipFill>
            <a:blip r:embed="rId4"/>
            <a:stretch/>
          </p:blipFill>
          <p:spPr>
            <a:xfrm>
              <a:off x="6172200" y="1600200"/>
              <a:ext cx="2057400" cy="173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eniadze_monety" descr=""/>
            <p:cNvPicPr/>
            <p:nvPr/>
          </p:nvPicPr>
          <p:blipFill>
            <a:blip r:embed="rId5"/>
            <a:stretch/>
          </p:blipFill>
          <p:spPr>
            <a:xfrm>
              <a:off x="2895480" y="1371600"/>
              <a:ext cx="3048120" cy="20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dog2" descr=""/>
            <p:cNvPicPr/>
            <p:nvPr/>
          </p:nvPicPr>
          <p:blipFill>
            <a:blip r:embed="rId6"/>
            <a:stretch/>
          </p:blipFill>
          <p:spPr>
            <a:xfrm>
              <a:off x="3352680" y="3657600"/>
              <a:ext cx="2949840" cy="28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5177_young_successful_farmer_smoking_a_tobacco_pipe" descr=""/>
            <p:cNvPicPr/>
            <p:nvPr/>
          </p:nvPicPr>
          <p:blipFill>
            <a:blip r:embed="rId7"/>
            <a:stretch/>
          </p:blipFill>
          <p:spPr>
            <a:xfrm>
              <a:off x="6781680" y="3429000"/>
              <a:ext cx="1268640" cy="17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lanet" descr=""/>
            <p:cNvPicPr/>
            <p:nvPr/>
          </p:nvPicPr>
          <p:blipFill>
            <a:blip r:embed="rId8"/>
            <a:stretch/>
          </p:blipFill>
          <p:spPr>
            <a:xfrm>
              <a:off x="990720" y="1371600"/>
              <a:ext cx="159372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dws-t-is-one-Communism" descr=""/>
            <p:cNvPicPr/>
            <p:nvPr/>
          </p:nvPicPr>
          <p:blipFill>
            <a:blip r:embed="rId9"/>
            <a:stretch/>
          </p:blipFill>
          <p:spPr>
            <a:xfrm>
              <a:off x="1066680" y="3200400"/>
              <a:ext cx="1501920" cy="1506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istockphoto_4608079_russian_roubles_backgroun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ranti Solid LET"/>
              </a:rPr>
              <a:t>What were the measures taken to enforce collectivisation?</a:t>
            </a: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rms groups together (Kolkhoz), government owned. Could keep small plots of land for personal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imals and tools pooled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free grain and steady in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nery make available by government at Motor tractor s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0% of food and produce would be sold to the state and profits shared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ror and propaganda turned people away from the Kulak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sition parties took all food, all of it if you ref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838080" y="990720"/>
            <a:ext cx="7372440" cy="5525640"/>
            <a:chOff x="838080" y="990720"/>
            <a:chExt cx="7372440" cy="5525640"/>
          </a:xfrm>
        </p:grpSpPr>
        <p:pic>
          <p:nvPicPr>
            <p:cNvPr id="146" name="RegionalNetworkingGroups" descr=""/>
            <p:cNvPicPr/>
            <p:nvPr/>
          </p:nvPicPr>
          <p:blipFill>
            <a:blip r:embed="rId2"/>
            <a:stretch/>
          </p:blipFill>
          <p:spPr>
            <a:xfrm>
              <a:off x="2819520" y="990720"/>
              <a:ext cx="2814480" cy="32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MI0727" descr=""/>
            <p:cNvPicPr/>
            <p:nvPr/>
          </p:nvPicPr>
          <p:blipFill>
            <a:blip r:embed="rId3"/>
            <a:stretch/>
          </p:blipFill>
          <p:spPr>
            <a:xfrm>
              <a:off x="1143000" y="1066680"/>
              <a:ext cx="1387440" cy="146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grainTransport" descr=""/>
            <p:cNvPicPr/>
            <p:nvPr/>
          </p:nvPicPr>
          <p:blipFill>
            <a:blip r:embed="rId4"/>
            <a:stretch/>
          </p:blipFill>
          <p:spPr>
            <a:xfrm>
              <a:off x="6095880" y="3657600"/>
              <a:ext cx="2114640" cy="285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tractor01" descr=""/>
            <p:cNvPicPr/>
            <p:nvPr/>
          </p:nvPicPr>
          <p:blipFill>
            <a:blip r:embed="rId5"/>
            <a:stretch/>
          </p:blipFill>
          <p:spPr>
            <a:xfrm>
              <a:off x="5867280" y="1523880"/>
              <a:ext cx="2210040" cy="163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dead_money" descr=""/>
            <p:cNvPicPr/>
            <p:nvPr/>
          </p:nvPicPr>
          <p:blipFill>
            <a:blip r:embed="rId6"/>
            <a:stretch/>
          </p:blipFill>
          <p:spPr>
            <a:xfrm>
              <a:off x="3352680" y="4343400"/>
              <a:ext cx="2362320" cy="205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5177_young_successful_farmer_smoking_a_tobacco_pipe" descr=""/>
            <p:cNvPicPr/>
            <p:nvPr/>
          </p:nvPicPr>
          <p:blipFill>
            <a:blip r:embed="rId7"/>
            <a:stretch/>
          </p:blipFill>
          <p:spPr>
            <a:xfrm>
              <a:off x="1066680" y="2666880"/>
              <a:ext cx="126864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violence%20cartoon2" descr=""/>
            <p:cNvPicPr/>
            <p:nvPr/>
          </p:nvPicPr>
          <p:blipFill>
            <a:blip r:embed="rId8"/>
            <a:stretch/>
          </p:blipFill>
          <p:spPr>
            <a:xfrm>
              <a:off x="838080" y="4724280"/>
              <a:ext cx="2300400" cy="1725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istockphoto_4608079_russian_roubles_backgroun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ranti Solid LET"/>
              </a:rPr>
              <a:t>What were the successes of Collectivisation?</a:t>
            </a: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arly all the kulaks were gone by 194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it had been introduced there was no more fa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million peasants started using machin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ign experts taught new ways to fa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arly all agriculture was organised in a collective system by 194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st practise achie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ually 30+ million tons of grain produced a ye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57200" y="1447920"/>
            <a:ext cx="8229240" cy="5104800"/>
            <a:chOff x="457200" y="1447920"/>
            <a:chExt cx="8229240" cy="5104800"/>
          </a:xfrm>
        </p:grpSpPr>
        <p:pic>
          <p:nvPicPr>
            <p:cNvPr id="157" name="5177_young_successful_farmer_smoking_a_tobacco_pipe" descr=""/>
            <p:cNvPicPr/>
            <p:nvPr/>
          </p:nvPicPr>
          <p:blipFill>
            <a:blip r:embed="rId2"/>
            <a:stretch/>
          </p:blipFill>
          <p:spPr>
            <a:xfrm>
              <a:off x="6905520" y="1447920"/>
              <a:ext cx="1450080" cy="20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SAA0643" descr=""/>
            <p:cNvPicPr/>
            <p:nvPr/>
          </p:nvPicPr>
          <p:blipFill>
            <a:blip r:embed="rId3"/>
            <a:stretch/>
          </p:blipFill>
          <p:spPr>
            <a:xfrm>
              <a:off x="718560" y="2975040"/>
              <a:ext cx="1317960" cy="143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tractor01" descr=""/>
            <p:cNvPicPr/>
            <p:nvPr/>
          </p:nvPicPr>
          <p:blipFill>
            <a:blip r:embed="rId4"/>
            <a:stretch/>
          </p:blipFill>
          <p:spPr>
            <a:xfrm>
              <a:off x="457200" y="1537560"/>
              <a:ext cx="1568160" cy="11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Alphabet%20Chalkboard" descr=""/>
            <p:cNvPicPr/>
            <p:nvPr/>
          </p:nvPicPr>
          <p:blipFill>
            <a:blip r:embed="rId5"/>
            <a:stretch/>
          </p:blipFill>
          <p:spPr>
            <a:xfrm>
              <a:off x="3158640" y="4861440"/>
              <a:ext cx="2265480" cy="169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dws-t-is-one-Communism" descr=""/>
            <p:cNvPicPr/>
            <p:nvPr/>
          </p:nvPicPr>
          <p:blipFill>
            <a:blip r:embed="rId6"/>
            <a:stretch/>
          </p:blipFill>
          <p:spPr>
            <a:xfrm>
              <a:off x="805680" y="4771440"/>
              <a:ext cx="1649880" cy="170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grsacks" descr=""/>
            <p:cNvPicPr/>
            <p:nvPr/>
          </p:nvPicPr>
          <p:blipFill>
            <a:blip r:embed="rId7"/>
            <a:stretch/>
          </p:blipFill>
          <p:spPr>
            <a:xfrm>
              <a:off x="5946840" y="3513960"/>
              <a:ext cx="2739600" cy="296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My_stamp_collection_book_opened" descr=""/>
            <p:cNvPicPr/>
            <p:nvPr/>
          </p:nvPicPr>
          <p:blipFill>
            <a:blip r:embed="rId8"/>
            <a:stretch/>
          </p:blipFill>
          <p:spPr>
            <a:xfrm>
              <a:off x="2199960" y="1627560"/>
              <a:ext cx="4443840" cy="3139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istockphoto_4608079_russian_roubles_backgroun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ranti Solid LET"/>
              </a:rPr>
              <a:t>What were the failures of collectivisation?</a:t>
            </a: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ly caused a fam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asants didn’t like growing flax not f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laks unhappy about have to give land and produ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laks burned land and killed animals in pro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asants were suspicious of gove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n’t work in the short ter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04920" y="1042920"/>
            <a:ext cx="7966080" cy="5815080"/>
            <a:chOff x="304920" y="1042920"/>
            <a:chExt cx="7966080" cy="5815080"/>
          </a:xfrm>
        </p:grpSpPr>
        <p:pic>
          <p:nvPicPr>
            <p:cNvPr id="168" name="schoolcartoonpics" descr=""/>
            <p:cNvPicPr/>
            <p:nvPr/>
          </p:nvPicPr>
          <p:blipFill>
            <a:blip r:embed="rId2"/>
            <a:srcRect l="7967" t="10967" r="3961" b="9400"/>
            <a:stretch/>
          </p:blipFill>
          <p:spPr>
            <a:xfrm>
              <a:off x="5181480" y="1523880"/>
              <a:ext cx="3089520" cy="358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hungry" descr=""/>
            <p:cNvPicPr/>
            <p:nvPr/>
          </p:nvPicPr>
          <p:blipFill>
            <a:blip r:embed="rId3"/>
            <a:stretch/>
          </p:blipFill>
          <p:spPr>
            <a:xfrm>
              <a:off x="5181480" y="5122800"/>
              <a:ext cx="2824200" cy="17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flaxdone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2362320" y="1143000"/>
              <a:ext cx="2895480" cy="21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cartoon-fire-&amp;-smoke-thumb559748" descr=""/>
            <p:cNvPicPr/>
            <p:nvPr/>
          </p:nvPicPr>
          <p:blipFill>
            <a:blip r:embed="rId6"/>
            <a:stretch/>
          </p:blipFill>
          <p:spPr>
            <a:xfrm>
              <a:off x="304920" y="2857680"/>
              <a:ext cx="2536560" cy="40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alabama-farmer328x491" descr=""/>
            <p:cNvPicPr/>
            <p:nvPr/>
          </p:nvPicPr>
          <p:blipFill>
            <a:blip r:embed="rId7"/>
            <a:stretch/>
          </p:blipFill>
          <p:spPr>
            <a:xfrm>
              <a:off x="2819520" y="3360600"/>
              <a:ext cx="233208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spy_vs_spy_5" descr=""/>
            <p:cNvPicPr/>
            <p:nvPr/>
          </p:nvPicPr>
          <p:blipFill>
            <a:blip r:embed="rId8"/>
            <a:stretch/>
          </p:blipFill>
          <p:spPr>
            <a:xfrm>
              <a:off x="457200" y="1042920"/>
              <a:ext cx="1828800" cy="1768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ranti Solid LET"/>
              </a:rPr>
              <a:t>What were the purges?</a:t>
            </a: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ystematic elimination of oppon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Stal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llion’s of people imprisoned in labour camps 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ulag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ranti Solid LET"/>
              </a:rPr>
              <a:t>What force did Stalin use to control the USSR</a:t>
            </a: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BlarneySCapsSSK"/>
              </a:rPr>
              <a:t>NKVD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ranti Solid LET"/>
              </a:rPr>
              <a:t>When did the purges begin?</a:t>
            </a: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193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iro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ader of the Leningrad communist party was murder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was used as an exc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ranti Solid LET"/>
              </a:rPr>
              <a:t>What factors meant that Stalin came to power after the death of Lenin?</a:t>
            </a: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2743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lin’s Political Streng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lin’s personal qua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tsky’s weaknes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285640" y="2286000"/>
            <a:ext cx="5907960" cy="825480"/>
            <a:chOff x="2285640" y="2286000"/>
            <a:chExt cx="5907960" cy="825480"/>
          </a:xfrm>
        </p:grpSpPr>
        <p:sp>
          <p:nvSpPr>
            <p:cNvPr id="47" name=""/>
            <p:cNvSpPr/>
            <p:nvPr/>
          </p:nvSpPr>
          <p:spPr>
            <a:xfrm flipH="1">
              <a:off x="2285640" y="2743200"/>
              <a:ext cx="1523880" cy="3049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272840" y="2286000"/>
              <a:ext cx="3920760" cy="82548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Zurich UBlkEx BT"/>
                </a:rPr>
                <a:t>If asked about 3 factors,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Zurich UBlkEx BT"/>
                </a:rPr>
                <a:t>this is the least importan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609480" y="1523880"/>
            <a:ext cx="8363160" cy="5334120"/>
            <a:chOff x="609480" y="1523880"/>
            <a:chExt cx="8363160" cy="5334120"/>
          </a:xfrm>
        </p:grpSpPr>
        <p:pic>
          <p:nvPicPr>
            <p:cNvPr id="50" name="15245_strong_man_holding_heavy_and_bending_red_barbell_weights_above_his_head_in_a_fitness_gym" descr=""/>
            <p:cNvPicPr/>
            <p:nvPr/>
          </p:nvPicPr>
          <p:blipFill>
            <a:blip r:embed="rId1"/>
            <a:stretch/>
          </p:blipFill>
          <p:spPr>
            <a:xfrm>
              <a:off x="4800600" y="1523880"/>
              <a:ext cx="4172040" cy="41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g" descr=""/>
            <p:cNvPicPr/>
            <p:nvPr/>
          </p:nvPicPr>
          <p:blipFill>
            <a:blip r:embed="rId2"/>
            <a:stretch/>
          </p:blipFill>
          <p:spPr>
            <a:xfrm>
              <a:off x="1676520" y="3565440"/>
              <a:ext cx="4252680" cy="329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four-leaf-clover" descr=""/>
            <p:cNvPicPr/>
            <p:nvPr/>
          </p:nvPicPr>
          <p:blipFill>
            <a:blip r:embed="rId3"/>
            <a:stretch/>
          </p:blipFill>
          <p:spPr>
            <a:xfrm>
              <a:off x="2971800" y="1600200"/>
              <a:ext cx="2514600" cy="249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charisma" descr=""/>
            <p:cNvPicPr/>
            <p:nvPr/>
          </p:nvPicPr>
          <p:blipFill>
            <a:blip r:embed="rId4"/>
            <a:stretch/>
          </p:blipFill>
          <p:spPr>
            <a:xfrm>
              <a:off x="609480" y="1752480"/>
              <a:ext cx="1979640" cy="295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ranti Solid LET"/>
              </a:rPr>
              <a:t>How did Stalin weaken the army?</a:t>
            </a: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getting rid of able officers that he saw as a threat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1 in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ficers were killed in the purg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ranti Solid LET"/>
              </a:rPr>
              <a:t>What cosmetic measures did Stalin introduce ?</a:t>
            </a: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ve peopl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ree spee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le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fact, all newspapers and magazines had to be approved and only communist candidates could stand for elec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ranti Solid LET"/>
              </a:rPr>
              <a:t>How did </a:t>
            </a:r>
            <a:r>
              <a:rPr b="1" lang="en-US" sz="4400" spc="-1" strike="noStrike">
                <a:solidFill>
                  <a:srgbClr val="000000"/>
                </a:solidFill>
                <a:latin typeface="Tiranti Solid LET"/>
              </a:rPr>
              <a:t>luck </a:t>
            </a:r>
            <a:r>
              <a:rPr b="0" lang="en-US" sz="4400" spc="-1" strike="noStrike">
                <a:solidFill>
                  <a:srgbClr val="000000"/>
                </a:solidFill>
                <a:latin typeface="Tiranti Solid LET"/>
              </a:rPr>
              <a:t>help Stalin come to power?</a:t>
            </a: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lucky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in’s testament was never publi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in died at a good time (earlier and Stalin wouldn’t have had enough pow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tsky was ill through most of the power strugg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04920" y="1905120"/>
            <a:ext cx="8610480" cy="3173400"/>
            <a:chOff x="304920" y="1905120"/>
            <a:chExt cx="8610480" cy="3173400"/>
          </a:xfrm>
        </p:grpSpPr>
        <p:pic>
          <p:nvPicPr>
            <p:cNvPr id="57" name="PE01498_%5B1%5D" descr=""/>
            <p:cNvPicPr/>
            <p:nvPr/>
          </p:nvPicPr>
          <p:blipFill>
            <a:blip r:embed="rId1"/>
            <a:stretch/>
          </p:blipFill>
          <p:spPr>
            <a:xfrm>
              <a:off x="304920" y="1905120"/>
              <a:ext cx="3276360" cy="317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death-clock" descr=""/>
            <p:cNvPicPr/>
            <p:nvPr/>
          </p:nvPicPr>
          <p:blipFill>
            <a:blip r:embed="rId2"/>
            <a:stretch/>
          </p:blipFill>
          <p:spPr>
            <a:xfrm>
              <a:off x="3733920" y="1905120"/>
              <a:ext cx="2125440" cy="31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cartoon%20sick" descr=""/>
            <p:cNvPicPr/>
            <p:nvPr/>
          </p:nvPicPr>
          <p:blipFill>
            <a:blip r:embed="rId3"/>
            <a:stretch/>
          </p:blipFill>
          <p:spPr>
            <a:xfrm>
              <a:off x="6019920" y="1905120"/>
              <a:ext cx="2895480" cy="3124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ranti Solid LET"/>
              </a:rPr>
              <a:t>What strengths of Stalin helped him come to power?</a:t>
            </a: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was in charge of appointing offices. He could give good posts to his “allies” and bad posts to his opponents where they couldn’t get much suppor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had played a vital  role in Bolshevik history so he was admired and considered loy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 roles meant that he was a good ally to have for leading politicians and they were equally useful to h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advocated the popular “socialism in one countr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09480" y="1219320"/>
            <a:ext cx="8001000" cy="5410080"/>
            <a:chOff x="609480" y="1219320"/>
            <a:chExt cx="8001000" cy="5410080"/>
          </a:xfrm>
        </p:grpSpPr>
        <p:pic>
          <p:nvPicPr>
            <p:cNvPr id="63" name="finger_point" descr=""/>
            <p:cNvPicPr/>
            <p:nvPr/>
          </p:nvPicPr>
          <p:blipFill>
            <a:blip r:embed="rId2"/>
            <a:stretch/>
          </p:blipFill>
          <p:spPr>
            <a:xfrm>
              <a:off x="609480" y="1219320"/>
              <a:ext cx="267516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28lassielarge1" descr=""/>
            <p:cNvPicPr/>
            <p:nvPr/>
          </p:nvPicPr>
          <p:blipFill>
            <a:blip r:embed="rId3"/>
            <a:stretch/>
          </p:blipFill>
          <p:spPr>
            <a:xfrm>
              <a:off x="3276720" y="1371600"/>
              <a:ext cx="3155760" cy="38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kroger" descr=""/>
            <p:cNvPicPr/>
            <p:nvPr/>
          </p:nvPicPr>
          <p:blipFill>
            <a:blip r:embed="rId4"/>
            <a:stretch/>
          </p:blipFill>
          <p:spPr>
            <a:xfrm>
              <a:off x="1371600" y="3886200"/>
              <a:ext cx="269712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220px-Russian_Federation_%28orthographic_projection%29.svg" descr="Location of Russia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5334120" y="3352680"/>
              <a:ext cx="3276360" cy="327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ranti Solid LET"/>
              </a:rPr>
              <a:t>What personality traits of Stalin helped helped him come to power?</a:t>
            </a: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was cunning, had no qualms about playing people off one another. He tricked Trotsky about Lenin’s funeral so it looked like he was much closer to Len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was considered mediocre and not a threat until it was too 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n’t mind doing boring, administrative tasks – which were vital to his pl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066680" y="1600200"/>
            <a:ext cx="6629400" cy="5049720"/>
            <a:chOff x="1066680" y="1600200"/>
            <a:chExt cx="6629400" cy="5049720"/>
          </a:xfrm>
        </p:grpSpPr>
        <p:pic>
          <p:nvPicPr>
            <p:cNvPr id="70" name="medium_" descr=""/>
            <p:cNvPicPr/>
            <p:nvPr/>
          </p:nvPicPr>
          <p:blipFill>
            <a:blip r:embed="rId1"/>
            <a:stretch/>
          </p:blipFill>
          <p:spPr>
            <a:xfrm>
              <a:off x="3581280" y="3886200"/>
              <a:ext cx="4114800" cy="276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bored" descr=""/>
            <p:cNvPicPr/>
            <p:nvPr/>
          </p:nvPicPr>
          <p:blipFill>
            <a:blip r:embed="rId2"/>
            <a:stretch/>
          </p:blipFill>
          <p:spPr>
            <a:xfrm>
              <a:off x="4724280" y="1600200"/>
              <a:ext cx="2590920" cy="234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burns2" descr=""/>
            <p:cNvPicPr/>
            <p:nvPr/>
          </p:nvPicPr>
          <p:blipFill>
            <a:blip r:embed="rId3"/>
            <a:stretch/>
          </p:blipFill>
          <p:spPr>
            <a:xfrm>
              <a:off x="1066680" y="2209680"/>
              <a:ext cx="3657600" cy="274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ranti Solid LET"/>
              </a:rPr>
              <a:t>What weaknesses of Trotsky helped Stalin come to power?</a:t>
            </a: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was high minded and looked down on his colleagues. They respected him but didn’t “like” hi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rty’s most eminent mediocrity”, didn’t see Stalin as a threa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didn’t believe in political alliances and dirty polit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be a Menshevik so was not seen as loy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762120" y="1371600"/>
            <a:ext cx="7397640" cy="5486400"/>
            <a:chOff x="762120" y="1371600"/>
            <a:chExt cx="7397640" cy="5486400"/>
          </a:xfrm>
        </p:grpSpPr>
        <p:pic>
          <p:nvPicPr>
            <p:cNvPr id="76" name="LookDown" descr=""/>
            <p:cNvPicPr/>
            <p:nvPr/>
          </p:nvPicPr>
          <p:blipFill>
            <a:blip r:embed="rId1"/>
            <a:srcRect l="14121" t="13215" r="33728" b="0"/>
            <a:stretch/>
          </p:blipFill>
          <p:spPr>
            <a:xfrm>
              <a:off x="762120" y="1371600"/>
              <a:ext cx="3357360" cy="396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aa06014" descr=""/>
            <p:cNvPicPr/>
            <p:nvPr/>
          </p:nvPicPr>
          <p:blipFill>
            <a:blip r:embed="rId2"/>
            <a:stretch/>
          </p:blipFill>
          <p:spPr>
            <a:xfrm>
              <a:off x="4114800" y="3962520"/>
              <a:ext cx="235116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oblivious_parents" descr=""/>
            <p:cNvPicPr/>
            <p:nvPr/>
          </p:nvPicPr>
          <p:blipFill>
            <a:blip r:embed="rId3"/>
            <a:stretch/>
          </p:blipFill>
          <p:spPr>
            <a:xfrm>
              <a:off x="4114800" y="1371600"/>
              <a:ext cx="3429000" cy="278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celangel" descr=""/>
            <p:cNvPicPr/>
            <p:nvPr/>
          </p:nvPicPr>
          <p:blipFill>
            <a:blip r:embed="rId4"/>
            <a:stretch/>
          </p:blipFill>
          <p:spPr>
            <a:xfrm>
              <a:off x="6400800" y="3505320"/>
              <a:ext cx="1758960" cy="3200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ranti Solid LET"/>
              </a:rPr>
              <a:t>When did Russia become the USSR?</a:t>
            </a: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before Lenin di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stockphoto_4608079_russian_roubles_backgroun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ranti Solid LET"/>
              </a:rPr>
              <a:t>What 2 major economic policies did Stalin make?</a:t>
            </a: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year P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v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stockphoto_4608079_russian_roubles_backgroun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ranti Solid LET"/>
              </a:rPr>
              <a:t>What did the 5 year plans aim to do?</a:t>
            </a: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 production in heavy go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ise the indu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 agriculture and ec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ch up with other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p army for predicted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power, control, order and disciplin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28600" y="1123920"/>
            <a:ext cx="8629560" cy="5734080"/>
            <a:chOff x="228600" y="1123920"/>
            <a:chExt cx="8629560" cy="5734080"/>
          </a:xfrm>
        </p:grpSpPr>
        <p:pic>
          <p:nvPicPr>
            <p:cNvPr id="89" name="coal-train330" descr=""/>
            <p:cNvPicPr/>
            <p:nvPr/>
          </p:nvPicPr>
          <p:blipFill>
            <a:blip r:embed="rId2"/>
            <a:stretch/>
          </p:blipFill>
          <p:spPr>
            <a:xfrm>
              <a:off x="3581280" y="1123920"/>
              <a:ext cx="3200400" cy="26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industry-camera-copyright1" descr=""/>
            <p:cNvPicPr/>
            <p:nvPr/>
          </p:nvPicPr>
          <p:blipFill>
            <a:blip r:embed="rId3"/>
            <a:stretch/>
          </p:blipFill>
          <p:spPr>
            <a:xfrm>
              <a:off x="304920" y="3809880"/>
              <a:ext cx="2736720" cy="288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tractor_254_1" descr=""/>
            <p:cNvPicPr/>
            <p:nvPr/>
          </p:nvPicPr>
          <p:blipFill>
            <a:blip r:embed="rId4"/>
            <a:stretch/>
          </p:blipFill>
          <p:spPr>
            <a:xfrm>
              <a:off x="5638680" y="3429000"/>
              <a:ext cx="3219480" cy="30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istockphoto_118624_gypsy_fortune_teller" descr=""/>
            <p:cNvPicPr/>
            <p:nvPr/>
          </p:nvPicPr>
          <p:blipFill>
            <a:blip r:embed="rId5"/>
            <a:stretch/>
          </p:blipFill>
          <p:spPr>
            <a:xfrm>
              <a:off x="2895480" y="3314880"/>
              <a:ext cx="2779920" cy="35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iz136011" descr=""/>
            <p:cNvPicPr/>
            <p:nvPr/>
          </p:nvPicPr>
          <p:blipFill>
            <a:blip r:embed="rId6"/>
            <a:srcRect l="0" t="20004" r="0" b="25002"/>
            <a:stretch/>
          </p:blipFill>
          <p:spPr>
            <a:xfrm>
              <a:off x="228600" y="1905120"/>
              <a:ext cx="3733920" cy="20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1320022P" descr=""/>
            <p:cNvPicPr/>
            <p:nvPr/>
          </p:nvPicPr>
          <p:blipFill>
            <a:blip r:embed="rId7"/>
            <a:stretch/>
          </p:blipFill>
          <p:spPr>
            <a:xfrm>
              <a:off x="6781680" y="1371600"/>
              <a:ext cx="2057400" cy="2057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6:41:35Z</dcterms:created>
  <dc:creator>Loz Hatton</dc:creator>
  <dc:description/>
  <dc:language>en-US</dc:language>
  <cp:lastModifiedBy>Loz Hatton</cp:lastModifiedBy>
  <dcterms:modified xsi:type="dcterms:W3CDTF">2009-01-10T23:39:39Z</dcterms:modified>
  <cp:revision>6</cp:revision>
  <dc:subject/>
  <dc:title>Stalin and Russia</dc:title>
</cp:coreProperties>
</file>